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5.jpeg" ContentType="image/jpeg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24A-FC43-4A75-BD99-25371C75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229-1070-4A20-A3AE-3CD50A7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6BD-1939-440E-AE8D-DA8B344B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41D-81FB-493A-B56A-A9AB20C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E1D-0EFD-4746-8059-3E9BA1B2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1338-BFA5-43C3-8273-631CFF15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25E9-AC01-4357-868C-FDE7846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AD8-4C86-4C7D-BD8E-CA3EE13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14C-5CE9-47F6-893E-38DEFB9E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D6BA-0F6D-4F53-B0F5-F0A1743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121-D992-45F3-8E8A-368112D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19A-084D-414D-8DD7-404CD16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1C1-407B-418A-9BE1-8AE9A04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1235-DAB6-4C19-903D-69515F0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5F5-EB9F-45B4-800A-82D2FE41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C1EA-8385-45FA-947D-4E76A4E6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5CB4-5695-4357-A931-176BBC34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6D54-291F-451C-A2B4-08D5B427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72EB-6195-42BF-96D9-B6CFE5DE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6BEC1-8E70-42AA-942B-72C69B0D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2923-F28B-4248-A699-619682B8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1194E-8A25-4BE4-9E6A-FDA678C5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216-C8FD-4115-9D43-83C1AA40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01FA-94A6-4E55-89F7-58C23015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A455-5546-4EE2-92AF-B7033D3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FE15-2AB6-4FFD-A8E0-964EAD3B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75FE1-36AD-429D-9A7D-1265974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AADA-6E94-4B05-9224-C6629B1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AA9B-A703-417A-B8B5-644A2D1B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8A22-B9BB-4829-92F8-A81CDD8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77B8-D572-4B43-B31C-18E4F567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FE27-8158-4EE2-969A-2F18B620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0889-133D-43C8-B0A4-CB1F0264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31A-7F4B-403C-A015-AD1687C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FAEBE-7F56-4805-A92A-8CF9879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BAE9-D707-4481-8D07-6C10654B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8FDF-95E6-4578-9BD7-CDCA958A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D742-B349-4902-944C-525C7508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B8EC-F136-4CAF-9F76-07E11A0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24CD-1BBA-4160-AC9B-DF294545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0CC9-D5BE-4F5C-BAE7-486E9AC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2DE21-1CAD-44E3-812B-DC522571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78812-68E2-447D-83FF-D1D92E0F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D179-6E18-4983-9196-A7537128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70E-4749-4043-8269-4758D7AD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C1FF-3201-43DA-9E5F-F1892AB1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72383-022F-4594-A963-2BA34D7F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22EB-F0CB-41BA-95D4-DF76BC7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CCCD-5E49-4092-BE00-82382123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093E-4589-47DA-934D-9E1FB83C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D4BA-DE7C-49FB-8A12-CF9BDFB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4E41B-46D4-466D-9837-942DED3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EED8-7A88-45A7-8943-9060968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A959-CB9B-40A9-8E2C-24E654A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0AE63-2A84-4631-B4A7-C420A1A4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C6D-8B6E-443A-B044-D74814E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6E31-E2B1-4D9A-A4CA-A60985D7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323A-76EC-4E6A-9036-F25C6B77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9281-6816-48DB-9166-161EAC8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E3DEA-4FF5-4329-BCDE-6618EF94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6E22-2801-40F7-B291-AA7895B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2DD7-2F4A-4DC4-97D5-5AFA2250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41FC-2740-4A76-86B8-3275B10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1CE78-EA1C-4795-86C1-4FA88598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B4EF-3423-474C-AD9C-F8C5673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333E-8A04-407C-8955-D502C3E5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B55A-0E2B-4549-8454-5F050577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EE82-B70F-4EB0-ADB9-B45F69B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2C74-5342-4570-80CB-C06282C3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84B38-F84A-451E-8A21-96298AF5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661A-BA51-47DC-87C3-3F22733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E2440-5B25-4BA8-8163-39494C88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6430-6D27-495A-A18B-46E17C10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C2B8-EEB8-424A-902E-52B5042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CD86-A0E6-4F20-8797-6923F40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38CB2-35D2-4F22-9BFC-FDD3DFA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FB5B3-3C3A-4327-99FB-3C8EBEF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774-08EE-4453-9F89-74BA27B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D462-2DDD-49F0-8215-C3B56315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B18C-1F70-4AF8-AC06-858AA58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A7321-2616-4E62-A758-962DA5E2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238B8-C382-4138-AEA2-9B8E5EC6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551A-3E90-4F52-B767-74B1444E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823D-5583-4E4B-8188-DEBDBD44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8813-5E63-4231-9138-CEC24EC2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2D79-7E78-42DD-904F-9F4EB63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71A9-0C79-4876-96A6-8F59CE9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3A4DF-51BD-4A58-B942-630D8F5C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629-9180-4003-A4BB-A103D908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3679D-C7AA-42C0-B373-44BB1BB2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25F8-B504-4B4C-9B81-20C3D36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7F60-8316-42DD-92E1-AF08F46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366A3-18D1-42DE-919B-1AC2205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7FD29-E44E-4AED-80F6-E1698F67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AE4D-FD6A-4F10-AE53-CBC7D61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89443-A976-4DE5-BBDF-C5E5AB98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4B2D-A3D5-445C-A033-C11726CC9E4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5BEA-0AEE-4ED7-8C7C-EB393BD4F530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71F-8682-46C5-9DF8-70640763151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8D4E-1699-4059-9254-40103A7E772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AF86-CD3A-413D-AF51-6DC633C644E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C1D-162A-40FB-AB89-00C4A139951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E74D-2D50-4387-ADE4-4BF4F92EE26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A9B7-8FCA-41C9-B333-3DAF2DC91C9A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modpoz.pl/files/plan2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0899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5181480" y="4495680"/>
            <a:ext cx="289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C:\Users\Marzena\AppData\Local\Microsoft\Windows\Temporary Internet Files\Content.IE5\BBL10B36\MC900343341[1].wmf"/>
          <p:cNvPicPr/>
          <p:nvPr/>
        </p:nvPicPr>
        <p:blipFill>
          <a:blip r:embed="rId2"/>
          <a:stretch/>
        </p:blipFill>
        <p:spPr>
          <a:xfrm>
            <a:off x="2627280" y="2565360"/>
            <a:ext cx="353700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14810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Najczęstszymi przyczynami , dla których może zajść konieczność ogłoszenia alarm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szkole, to zagrożenia związane z powstaniem pożaru a także możliwość rozprzestrzenienia na terenie szkoły niebezpiecznych substancji chemicznych lub ładunków wybuchowy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068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Marzena\AppData\Local\Microsoft\Windows\Temporary Internet Files\Content.IE5\2RQKC6FH\MC900340838[1].wmf"/>
          <p:cNvPicPr/>
          <p:nvPr/>
        </p:nvPicPr>
        <p:blipFill>
          <a:blip r:embed="rId2"/>
          <a:stretch/>
        </p:blipFill>
        <p:spPr>
          <a:xfrm>
            <a:off x="7164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Dyrektor po otrzymaniu meldunku od nauczyciela lub innej osoby zgłaszającej zagrożenie oraz rozpoznaniu sytuacji podejmuje decyzję o zawiadomieniu straż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i ogłoszeniu alarm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czniowie na polecenie nauczyciela ustawiają się w szeregu i w sposób zorganizowany kierują się do wskazanego wyjścia ewakuacyjneg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Marzena\AppData\Local\Microsoft\Windows\Temporary Internet Files\Content.IE5\LW2ZZFIX\MC900355335[1].wmf"/>
          <p:cNvPicPr/>
          <p:nvPr/>
        </p:nvPicPr>
        <p:blipFill>
          <a:blip r:embed="rId2"/>
          <a:stretch/>
        </p:blipFill>
        <p:spPr>
          <a:xfrm>
            <a:off x="6516720" y="4581360"/>
            <a:ext cx="20606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1480680"/>
            <a:ext cx="864072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łuchaj i wykonuj dokładnie polecenia nauczyciel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ądź opanowany, nie ulegaj panice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 przerwaniu zajęć udaj się wraz z klasą, drogą wskazywaną przez nauczyciela na miejsce zbiór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magaj osobom słabsz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ezwzględnie podporządkowuj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ię osobom funkcyjn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ie lekceważ zagrożenia, nawet wówczas, gdy  nie zagraża ci bezpośredn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ytuł 2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4884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C:\Users\Marzena\AppData\Local\Microsoft\Windows\Temporary Internet Files\Content.IE5\2RQKC6FH\MC900404189[1].wm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020000" y="3789360"/>
            <a:ext cx="1854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438120" y="469800"/>
            <a:ext cx="8345520" cy="951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367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erunek do wyjścia drogi ewakuacyjnej schodami w dół (na prawo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6" descr="Kierunek do wyjścia do drogi ewakuacyjnej schodami w dół w prawo;"/>
          <p:cNvPicPr/>
          <p:nvPr/>
        </p:nvPicPr>
        <p:blipFill>
          <a:blip r:embed="rId2"/>
          <a:stretch/>
        </p:blipFill>
        <p:spPr>
          <a:xfrm>
            <a:off x="684360" y="1413000"/>
            <a:ext cx="316692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Kierunek do wyjścia drogi w prawo"/>
          <p:cNvPicPr/>
          <p:nvPr/>
        </p:nvPicPr>
        <p:blipFill>
          <a:blip r:embed="rId3"/>
          <a:stretch/>
        </p:blipFill>
        <p:spPr>
          <a:xfrm>
            <a:off x="5148360" y="1484280"/>
            <a:ext cx="3240000" cy="1622520"/>
          </a:xfrm>
          <a:prstGeom prst="rect">
            <a:avLst/>
          </a:prstGeom>
          <a:ln w="0">
            <a:noFill/>
          </a:ln>
        </p:spPr>
      </p:pic>
      <p:sp>
        <p:nvSpPr>
          <p:cNvPr id="386" name="pole tekstowe 5"/>
          <p:cNvSpPr/>
          <p:nvPr/>
        </p:nvSpPr>
        <p:spPr>
          <a:xfrm>
            <a:off x="5148360" y="3213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unek do wyjścia drogi ewakuacyjnej (w praw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Kierunek drogi ewakuacyjnej;3"/>
          <p:cNvPicPr/>
          <p:nvPr/>
        </p:nvPicPr>
        <p:blipFill>
          <a:blip r:embed="rId4"/>
          <a:stretch/>
        </p:blipFill>
        <p:spPr>
          <a:xfrm>
            <a:off x="2916360" y="4365720"/>
            <a:ext cx="3816360" cy="1271520"/>
          </a:xfrm>
          <a:prstGeom prst="rect">
            <a:avLst/>
          </a:prstGeom>
          <a:ln w="0">
            <a:noFill/>
          </a:ln>
        </p:spPr>
      </p:pic>
      <p:sp>
        <p:nvSpPr>
          <p:cNvPr id="388" name="Symbol zastępczy zawartości 6"/>
          <p:cNvSpPr/>
          <p:nvPr/>
        </p:nvSpPr>
        <p:spPr>
          <a:xfrm>
            <a:off x="2771640" y="5805360"/>
            <a:ext cx="4537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Kierunek drogi ewakuacyj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7" descr="Kierunek drogi ewakuacyjnej2"/>
          <p:cNvPicPr/>
          <p:nvPr/>
        </p:nvPicPr>
        <p:blipFill>
          <a:blip r:embed="rId1"/>
          <a:stretch/>
        </p:blipFill>
        <p:spPr>
          <a:xfrm>
            <a:off x="1547640" y="2997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390" name="Prostokąt 7"/>
          <p:cNvSpPr/>
          <p:nvPr/>
        </p:nvSpPr>
        <p:spPr>
          <a:xfrm>
            <a:off x="0" y="5013360"/>
            <a:ext cx="518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nek drogi ewakuacyjnej 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nak do stosowania ty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innymi znak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Pchać aby otworzyć;"/>
          <p:cNvPicPr/>
          <p:nvPr/>
        </p:nvPicPr>
        <p:blipFill>
          <a:blip r:embed="rId2"/>
          <a:stretch/>
        </p:blipFill>
        <p:spPr>
          <a:xfrm>
            <a:off x="6156360" y="333360"/>
            <a:ext cx="2016000" cy="2014560"/>
          </a:xfrm>
          <a:prstGeom prst="rect">
            <a:avLst/>
          </a:prstGeom>
          <a:ln w="0">
            <a:noFill/>
          </a:ln>
        </p:spPr>
      </p:pic>
      <p:sp>
        <p:nvSpPr>
          <p:cNvPr id="392" name="Prostokąt 9"/>
          <p:cNvSpPr/>
          <p:nvPr/>
        </p:nvSpPr>
        <p:spPr>
          <a:xfrm>
            <a:off x="5667840" y="24922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chać, aby otworzy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1" descr="Drzwi ewakuacyjne;2"/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11"/>
          <p:cNvSpPr/>
          <p:nvPr/>
        </p:nvSpPr>
        <p:spPr>
          <a:xfrm>
            <a:off x="5364000" y="551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zwi ewakuacyjne (pra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Wyjście ewakuacyjne;"/>
          <p:cNvPicPr/>
          <p:nvPr/>
        </p:nvPicPr>
        <p:blipFill>
          <a:blip r:embed="rId4"/>
          <a:stretch/>
        </p:blipFill>
        <p:spPr>
          <a:xfrm>
            <a:off x="1332000" y="549360"/>
            <a:ext cx="2808360" cy="1403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684360" y="2133720"/>
            <a:ext cx="400032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jście ewakuacyj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http://modpoz.pl/files/plan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ole tekstowe 2"/>
          <p:cNvSpPr/>
          <p:nvPr/>
        </p:nvSpPr>
        <p:spPr>
          <a:xfrm>
            <a:off x="179280" y="62118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kładowy plan ewakuacyjn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</a:t>
            </a:r>
            <a:r>
              <a:rPr b="0" lang="pl-PL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modpoz.pl/files/plan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W razie potrzeby (pożar, wypadek lub awaria) zaalarmować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Ratunkowe          ………tel. 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licję                                  ………tel. 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7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Gazowe               ………tel.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  99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Energetyczne        ………tel.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1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Wodociągowe        ………tel.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niwersalny numer alarmowy ……… tel.    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1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Marzena\AppData\Local\Microsoft\Windows\Temporary Internet Files\Content.IE5\8XW2J9XG\MC900078762[1].wmf"/>
          <p:cNvPicPr/>
          <p:nvPr/>
        </p:nvPicPr>
        <p:blipFill>
          <a:blip r:embed="rId2"/>
          <a:stretch/>
        </p:blipFill>
        <p:spPr>
          <a:xfrm>
            <a:off x="7524720" y="260280"/>
            <a:ext cx="11178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4000" y="404280"/>
            <a:ext cx="8496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Arial"/>
              </a:rPr>
              <a:t>PAMIĘTAJMY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AKCJA BĘDZIE PRZEBIEGAŁA SPRAWNIE, JEŻELI WSZYSCY ZACHOWAJĄ SPOKÓJ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I PODPORZĄDKUJĄ SIĘ WYDAWANYM POLECENIOM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5" descr="C:\Users\Marzena\AppData\Local\Microsoft\Windows\Temporary Internet Files\Content.IE5\BBL10B36\MC900428289[1].wmf"/>
          <p:cNvPicPr/>
          <p:nvPr/>
        </p:nvPicPr>
        <p:blipFill>
          <a:blip r:embed="rId1"/>
          <a:stretch/>
        </p:blipFill>
        <p:spPr>
          <a:xfrm>
            <a:off x="3419640" y="4076640"/>
            <a:ext cx="2617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2:38:21Z</dcterms:created>
  <dc:creator>Marzena</dc:creator>
  <dc:description/>
  <dc:language>en-US</dc:language>
  <cp:lastModifiedBy>Marzena</cp:lastModifiedBy>
  <dcterms:modified xsi:type="dcterms:W3CDTF">2013-08-09T12:37:13Z</dcterms:modified>
  <cp:revision>30</cp:revision>
  <dc:subject/>
  <dc:title>Zasady zachowania podczas ogłoszenia alarmu i oznakowanie drogi ewakuacyjnej</dc:title>
</cp:coreProperties>
</file>